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FB3-2D5F-411C-BAAC-8A88471E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56E-C0E3-40F8-808C-74B4DBC1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EDB-DBE1-4659-9F54-4980ACFC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584-75F7-4181-968F-D46AD300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D0C3-64A3-46FD-B8F1-0E720A2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8021-A054-43F8-A3A5-F9FC968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1E8-23F1-4DE4-A7BC-10546B0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F41A-6976-4FB0-8792-FDB7B83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A4C6-741A-4C6C-B8BF-78F5B37D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7126-3A33-4676-8A7F-FD0E611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BFA-6E3A-479D-8470-1FFABE1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472-70D3-4B24-B1E9-4D00369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6576-A7DB-4789-B3AC-DBD8064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A8E2-FD93-4DFE-8DFF-11FF2E0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DE8-00B6-43CD-9EBA-CB060C2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3AD2-EBD0-4A7E-9D8C-8F054565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8D4F-B4C7-4D63-A65F-AD0E799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C049-A487-4546-B130-1DC47C81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1F3B-44D8-419A-9CF2-EBDDB2D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F7E0-55D3-4D47-8195-E23968C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1AA3-0FF1-42AA-8E51-4D9FC40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3CE0-C723-4EA4-AE64-5BDDA2F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06E-73EA-4E3B-A7AD-F705C39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5EF0-C285-473C-8BB2-B68CFCD5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F7AF-4C32-497C-A6E6-8E291C1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F473-36F2-428B-BA85-32BC023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853A-F15C-443D-BE41-311F5F4C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BE41-7D7B-4697-80BE-A29F9AC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5B10-64F8-4D41-B5A3-CC3D4BAC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8724-F8D1-4750-B64D-9ABE15AA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2196-EDBB-4002-968C-A0C8EFA6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57F8-4481-4EAF-AFC1-CEDAB79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0D47-23F5-4AB8-AFA2-5946148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C6E-FE41-4FEB-B653-A087096D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88620-3BDD-4576-9D2A-BB171F6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EC98-34C7-463C-8C3C-1DAD942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23216-1FC7-455D-9FD3-27377EC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8376-91D3-4AFD-9880-D57FFDC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A54D-D621-472A-A3CD-6BAC0B2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0315C-6251-4C02-804D-72400483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3A5A-4993-4E89-8C10-BFEE5A3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802E-2F20-4407-85D8-5BFC954E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7484-D552-482F-A858-8CECD794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666-416F-49A3-910F-8F1DA6E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E04-2D1C-4762-964F-8A4BC48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DB6-30E1-4793-94D7-B60D6E2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CEC-ACF8-4D56-BEF8-C66CC3D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D63-FC6B-4776-8E52-8DC563F9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9E5-BD51-441A-86AA-60252DD6A6E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E94-6770-4AA7-8351-8E65938936B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43F-6337-4212-AB75-DA1B09411FA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AEF8-AA19-4A86-9F1E-515A2422D5C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927000" y="1311120"/>
            <a:ext cx="75945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09160" cy="15303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714240" y="18572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642960" y="150012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ши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ы из скобок ставь в повелительной форме мн.ч.(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то сделайте?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линарный рецеп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огреть) масло на ск..вороде. (Выр..зать) в середине кусочка хлеба   кружоч…к, (поджарить) с одной стороны в масле. (Перевернуть) хлеб, (разбить) туда яйцо так, чтобы ж..лток остался целым. (Пр..править) солью и перц..м и (накрыть) крышкой. Через пять минут блюдо гот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14200" y="571500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ец: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огрейт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сло на сковороде. Вырежьте в середине кусочка хлеба сердечко, поджарьте с одной сторон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15920" y="212760"/>
            <a:ext cx="8693280" cy="15368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1428840" y="1357200"/>
            <a:ext cx="621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должить любое предл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выполнял задани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перь я мог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 попробу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2"/>
          <p:cNvSpPr/>
          <p:nvPr/>
        </p:nvSpPr>
        <p:spPr>
          <a:xfrm>
            <a:off x="571680" y="2143080"/>
            <a:ext cx="7929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и правописание слов с данными орфограммами.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одчерк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аголы в повелитель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бята, пожалуйста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аккуратными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трогай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еня грязными руками. Когда читает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став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меня локт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 кла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книгу карандаш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ьзуйтес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ла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ша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куратность поможет мне остаться чистой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г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м быть счастлив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00040" y="426960"/>
            <a:ext cx="8309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577360" cy="12128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285840" y="785880"/>
            <a:ext cx="8643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это часть речи, которая обозначает действие предмета и отвечает на вопросы что делать?  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трицания с глаголами используют частиц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 с глаголами пишется от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велительная форма  глагола отвечает на вопрос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что делай? что сделай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уходи, спряч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 делайте? что сделайте? –мн.ч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ячьте, найдит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единственном числе глаголы в повелительной форме имеют на кон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, й, 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 множественном числе к ним присоедин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гкий знак пере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заглян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гля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71680" y="571680"/>
            <a:ext cx="8001000" cy="539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овтор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 глаголах в повелительной форме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те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 перед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-ся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мягкий зн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рячьте ,спряч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79200" y="-158760"/>
            <a:ext cx="8656920" cy="25779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1000080" y="1928880"/>
            <a:ext cx="75009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сь собирать лекарственные травы. Делай сбор утром и вечером. В жаркую пору оставь работу. Сырьё долго не храни. Оно портится. Брось все дела и займись сортировкой. Не забудь упаковать сухие растения. Готовую упаковку подпиши и спрячь в тём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58760" y="1079640"/>
            <a:ext cx="86742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8656920" cy="25844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714240" y="2179800"/>
            <a:ext cx="74296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дай, пожалуйста, со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дайте мою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напишем письм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медленно выйди из вод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сскажи о себ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571680" y="4714920"/>
            <a:ext cx="8072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щите щенка!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2"/>
          <p:cNvSpPr/>
          <p:nvPr/>
        </p:nvSpPr>
        <p:spPr>
          <a:xfrm>
            <a:off x="785880" y="1000080"/>
            <a:ext cx="7786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 стихотворные строки. Подбери по смыслу пропущенные глаголы в повелите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укушечка, мой свет, ... мне двести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Ёж, ты колкий! ..., дружок,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ы ..., мой соловей, хоть за тридевять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е ..., девчонка, пройдут дожди. Солдат вернётся, ты только 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ши предложения. Подчеркни глаголы в повелите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214200" y="7142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Провер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укушечка, мой свет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куку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мне двести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Ёж, ты колкий!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ряч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дружок, иг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е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мой соловей, хоть за тридевять зем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ач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девчонка, пройдут дожди. Солдат вернётся, ты только жд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4T14:29:32Z</dcterms:created>
  <dc:creator>Алексей</dc:creator>
  <dc:description/>
  <dc:language>en-US</dc:language>
  <cp:lastModifiedBy>user</cp:lastModifiedBy>
  <dcterms:modified xsi:type="dcterms:W3CDTF">2022-02-27T09:26:11Z</dcterms:modified>
  <cp:revision>70</cp:revision>
  <dc:subject/>
  <dc:title>Слайд 1</dc:title>
</cp:coreProperties>
</file>